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9A4F-B6A8-433F-BAD3-DB1173251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5064-B682-4DF8-BBD9-924FE87B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51E4-516A-442A-895D-74BC29783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684E-769A-495C-B81F-378CB3DD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D3EB-4948-43D2-AE5D-C38890C8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0B97-F685-4349-A561-A997E81E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3D91-BBDB-4C23-84C7-896CFA24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8576-CF9E-4780-9967-AD439145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7FBF-4613-472A-8A12-841FE56C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617A-7521-4AA6-A0DC-671CFBEA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C17D-CFED-4292-8A6F-D24DC045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A94A-3A79-4021-83CC-9147AA06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3498-BAD8-4C8F-A8EF-DD1DE32DF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ore On Remainde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80880"/>
            <a:ext cx="868680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) How many 17p bars of chocolate can you buy for £1.4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219320"/>
            <a:ext cx="8077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) How much change would you hav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1905120"/>
            <a:ext cx="2306520" cy="1214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227640" y="299736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Microsoft clip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8600"/>
            <a:ext cx="8686800" cy="101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A bus can carry 63 peop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) How many buses are required for an outing for 340 peopl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676520"/>
            <a:ext cx="861048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) How many people are on the bus that is not full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19920" y="2286000"/>
            <a:ext cx="2743200" cy="1585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524720" y="393372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Microsoft clip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380880"/>
            <a:ext cx="8686800" cy="13816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A postman can deliver 750 items of post in a d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) How many postmen would be required to deliver 6240 items of pos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981080"/>
            <a:ext cx="83059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) How many items of post would the postmen without a full round delive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477120" y="2895480"/>
            <a:ext cx="2057400" cy="1737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308720" y="458136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Microsoft clip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8088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80880"/>
            <a:ext cx="8534160" cy="138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 To take a pupil on a trip costs £5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) How many pupils can go on the trip if the school has £3200 saved in the excursion fu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209680"/>
            <a:ext cx="830592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) How much money is left once the trip is paid fo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239920" cy="1873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164360" y="472428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Microsoft clip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380880"/>
            <a:ext cx="8915400" cy="101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6) Calculators cost £5.50 e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) How many can be bought for £492.50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752480"/>
            <a:ext cx="655308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) How much money is left in the calculator fun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705720" y="1523880"/>
            <a:ext cx="1782720" cy="2438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451640" y="393372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Microsoft clip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07:50:29Z</dcterms:created>
  <dc:creator>LT Scotland</dc:creator>
  <dc:description/>
  <dc:language>en-US</dc:language>
  <cp:lastModifiedBy>LTS</cp:lastModifiedBy>
  <dcterms:modified xsi:type="dcterms:W3CDTF">2004-11-28T13:42:00Z</dcterms:modified>
  <cp:revision>4</cp:revision>
  <dc:subject/>
  <dc:title>Access 3 Mathematics: Unit 1 Outcome 1 - More On Remainders.</dc:title>
</cp:coreProperties>
</file>